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27.gif" ContentType="image/gif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7FC-F8D6-4F19-B4AC-B048EBFD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33E-5BBB-4B60-8BEF-C9F2B9A0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1D1-5E26-4B3D-9505-F54E050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4CD-2DCC-458A-B2B8-6575A907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1C7-4CE6-4B9F-B297-2F4E7C1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435-438D-4449-BB16-09D98395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CB8-9314-4151-8316-B7AA88D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82F-6F54-4256-B1F6-18733F3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FA9-AE5C-445E-A26A-C3580AB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E09-027F-4AA4-B935-33EE082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6F6-BF5D-40D1-9D2D-3A30BE86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E25-3D4F-44C3-BB73-A8B2AC4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0B8-722E-44ED-8326-93B6E7F4C7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7" Type="http://schemas.openxmlformats.org/officeDocument/2006/relationships/image" Target="../media/image15.jpeg"/><Relationship Id="rId18" Type="http://schemas.openxmlformats.org/officeDocument/2006/relationships/image" Target="../media/image13.jpeg"/><Relationship Id="rId19" Type="http://schemas.openxmlformats.org/officeDocument/2006/relationships/image" Target="../media/image15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050920" y="189000"/>
            <a:ext cx="74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БОУ СОШ №3 им. И.А.Левченк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г .Семикаракорс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042920" y="1628640"/>
            <a:ext cx="870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ookman Old Style"/>
              </a:rPr>
              <a:t>Русский язык   4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ookman Old Style"/>
              </a:rPr>
              <a:t>«Правописание безударных падежных окончаний существительных в Д.п  и П.п.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708360" y="537372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Василенко Наталья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755640" y="1413000"/>
          <a:ext cx="1944720" cy="1006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19640" y="1413000"/>
          <a:ext cx="1871640" cy="1008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867280" y="1413000"/>
          <a:ext cx="1944720" cy="10080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3213000"/>
          <a:ext cx="2305080" cy="210348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ук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емл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276720" y="3284640"/>
          <a:ext cx="2232000" cy="2103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дво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кн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940360" y="3284640"/>
          <a:ext cx="2089080" cy="21034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еп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еч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123"/>
          <p:cNvSpPr/>
          <p:nvPr/>
        </p:nvSpPr>
        <p:spPr>
          <a:xfrm>
            <a:off x="2053440" y="0"/>
            <a:ext cx="50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Поликлини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0"/>
          <p:cNvGrpSpPr/>
          <p:nvPr/>
        </p:nvGrpSpPr>
        <p:grpSpPr>
          <a:xfrm>
            <a:off x="4500720" y="692280"/>
            <a:ext cx="4823640" cy="2807640"/>
            <a:chOff x="4500720" y="692280"/>
            <a:chExt cx="4823640" cy="2807640"/>
          </a:xfrm>
        </p:grpSpPr>
        <p:sp>
          <p:nvSpPr>
            <p:cNvPr id="155" name="Rectangle 101"/>
            <p:cNvSpPr/>
            <p:nvPr/>
          </p:nvSpPr>
          <p:spPr>
            <a:xfrm>
              <a:off x="5123160" y="1895400"/>
              <a:ext cx="3578400" cy="1604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Пишу оконча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ак у опорног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лов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02"/>
            <p:cNvSpPr/>
            <p:nvPr/>
          </p:nvSpPr>
          <p:spPr>
            <a:xfrm>
              <a:off x="4500720" y="692280"/>
              <a:ext cx="4823640" cy="130356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74"/>
          <p:cNvSpPr/>
          <p:nvPr/>
        </p:nvSpPr>
        <p:spPr>
          <a:xfrm>
            <a:off x="973800" y="0"/>
            <a:ext cx="760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Магазин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«Алгоритм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93"/>
          <p:cNvGrpSpPr/>
          <p:nvPr/>
        </p:nvGrpSpPr>
        <p:grpSpPr>
          <a:xfrm>
            <a:off x="4319640" y="3645000"/>
            <a:ext cx="4823640" cy="2663280"/>
            <a:chOff x="4319640" y="3645000"/>
            <a:chExt cx="4823640" cy="2663280"/>
          </a:xfrm>
        </p:grpSpPr>
        <p:sp>
          <p:nvSpPr>
            <p:cNvPr id="159" name="Rectangle 94"/>
            <p:cNvSpPr/>
            <p:nvPr/>
          </p:nvSpPr>
          <p:spPr>
            <a:xfrm>
              <a:off x="4942080" y="478620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Подбира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опорное сло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95"/>
            <p:cNvSpPr/>
            <p:nvPr/>
          </p:nvSpPr>
          <p:spPr>
            <a:xfrm>
              <a:off x="4319640" y="364500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99"/>
          <p:cNvGrpSpPr/>
          <p:nvPr/>
        </p:nvGrpSpPr>
        <p:grpSpPr>
          <a:xfrm>
            <a:off x="179280" y="1052640"/>
            <a:ext cx="4824360" cy="2674800"/>
            <a:chOff x="179280" y="1052640"/>
            <a:chExt cx="4824360" cy="2674800"/>
          </a:xfrm>
        </p:grpSpPr>
        <p:sp>
          <p:nvSpPr>
            <p:cNvPr id="162" name="Rectangle 82"/>
            <p:cNvSpPr/>
            <p:nvPr/>
          </p:nvSpPr>
          <p:spPr>
            <a:xfrm>
              <a:off x="826920" y="2205000"/>
              <a:ext cx="3579840" cy="1522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Определя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клоне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83"/>
            <p:cNvSpPr/>
            <p:nvPr/>
          </p:nvSpPr>
          <p:spPr>
            <a:xfrm>
              <a:off x="179280" y="1052640"/>
              <a:ext cx="482436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96"/>
          <p:cNvGrpSpPr/>
          <p:nvPr/>
        </p:nvGrpSpPr>
        <p:grpSpPr>
          <a:xfrm>
            <a:off x="0" y="3933720"/>
            <a:ext cx="4823640" cy="2663640"/>
            <a:chOff x="0" y="3933720"/>
            <a:chExt cx="4823640" cy="2663640"/>
          </a:xfrm>
        </p:grpSpPr>
        <p:sp>
          <p:nvSpPr>
            <p:cNvPr id="165" name="Rectangle 97"/>
            <p:cNvSpPr/>
            <p:nvPr/>
          </p:nvSpPr>
          <p:spPr>
            <a:xfrm>
              <a:off x="622440" y="507528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тавл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уществительно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в н.ф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98"/>
            <p:cNvSpPr/>
            <p:nvPr/>
          </p:nvSpPr>
          <p:spPr>
            <a:xfrm>
              <a:off x="0" y="393372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113" descr="i?id=10335062&amp;tov=3"/>
          <p:cNvPicPr/>
          <p:nvPr/>
        </p:nvPicPr>
        <p:blipFill>
          <a:blip r:embed="rId1"/>
          <a:stretch/>
        </p:blipFill>
        <p:spPr>
          <a:xfrm>
            <a:off x="324000" y="2349360"/>
            <a:ext cx="194616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411280" y="620640"/>
          <a:ext cx="792360" cy="608976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1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58382E-006 L 0.24409 -0.62405 E">
                                      <p:cBhvr>
                                        <p:cTn id="38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22048 -0.00578 E">
                                      <p:cBhvr>
                                        <p:cTn id="38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-0.2283 -0.18358 E">
                                      <p:cBhvr>
                                        <p:cTn id="39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12047 L -0.26372 0.45619 E">
                                      <p:cBhvr>
                                        <p:cTn id="39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53080" y="2637000"/>
            <a:ext cx="13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Д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52720" y="3573360"/>
            <a:ext cx="13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5092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кончания имен существительных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427640" y="3500280"/>
            <a:ext cx="86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1693800" y="350028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924360" y="2421000"/>
            <a:ext cx="86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5005080" y="2492280"/>
            <a:ext cx="10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693800" y="2565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47640" y="170028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3924360" y="170028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516720" y="170028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949800" y="2421000"/>
            <a:ext cx="90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6949800" y="3500280"/>
            <a:ext cx="90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3851280" y="1916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6372360" y="1844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6"/>
          <p:cNvSpPr/>
          <p:nvPr/>
        </p:nvSpPr>
        <p:spPr>
          <a:xfrm>
            <a:off x="1547640" y="184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7"/>
          <p:cNvSpPr/>
          <p:nvPr/>
        </p:nvSpPr>
        <p:spPr>
          <a:xfrm flipH="1">
            <a:off x="0" y="2492280"/>
            <a:ext cx="88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4"/>
          <p:cNvSpPr/>
          <p:nvPr/>
        </p:nvSpPr>
        <p:spPr>
          <a:xfrm>
            <a:off x="1547640" y="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чебный цент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Рисунок 21" descr="http://4.bp.blogspot.com/-LBvibLwHANg/Ulqcnk2_GzI/AAAAAAAACTg/cfVqqhKIqGA/s1600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6732720" y="4508640"/>
            <a:ext cx="22064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Рисунок92"/>
          <p:cNvPicPr/>
          <p:nvPr/>
        </p:nvPicPr>
        <p:blipFill>
          <a:blip r:embed="rId1"/>
          <a:stretch/>
        </p:blipFill>
        <p:spPr>
          <a:xfrm>
            <a:off x="539640" y="26028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360000" y="2852640"/>
            <a:ext cx="838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На автомобиле…  м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едем  по      дорог …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80400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6229080" y="234936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646880" y="3645000"/>
            <a:ext cx="24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1 скл. Д.п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805080" y="306864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2918520" y="234936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2 скл. П.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6228720" y="213372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9" descr="i?id=80494729&amp;tov=3"/>
          <p:cNvPicPr/>
          <p:nvPr/>
        </p:nvPicPr>
        <p:blipFill>
          <a:blip r:embed="rId2"/>
          <a:stretch/>
        </p:blipFill>
        <p:spPr>
          <a:xfrm>
            <a:off x="6012000" y="260280"/>
            <a:ext cx="2412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Рисунок92"/>
          <p:cNvPicPr/>
          <p:nvPr/>
        </p:nvPicPr>
        <p:blipFill>
          <a:blip r:embed="rId1"/>
          <a:stretch/>
        </p:blipFill>
        <p:spPr>
          <a:xfrm>
            <a:off x="539640" y="26028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60000" y="2852640"/>
            <a:ext cx="838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На автомобиле…  м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едем  по      дорог …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80400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6229080" y="234936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067280" y="3645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 скл. по земл</a:t>
            </a: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228720" y="191628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2413800" y="256536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скл. на стол</a:t>
            </a: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6878160" y="299736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9" descr="i?id=80494729&amp;tov=3"/>
          <p:cNvPicPr/>
          <p:nvPr/>
        </p:nvPicPr>
        <p:blipFill>
          <a:blip r:embed="rId2"/>
          <a:stretch/>
        </p:blipFill>
        <p:spPr>
          <a:xfrm>
            <a:off x="6012000" y="260280"/>
            <a:ext cx="2412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комп1\Desktop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762120" y="137160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C:\Users\комп1\Desktop\img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pronoms2"/>
          <p:cNvPicPr/>
          <p:nvPr/>
        </p:nvPicPr>
        <p:blipFill>
          <a:blip r:embed="rId1"/>
          <a:stretch/>
        </p:blipFill>
        <p:spPr>
          <a:xfrm>
            <a:off x="5076720" y="98100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8" descr="pronoms2"/>
          <p:cNvPicPr/>
          <p:nvPr/>
        </p:nvPicPr>
        <p:blipFill>
          <a:blip r:embed="rId2"/>
          <a:stretch/>
        </p:blipFill>
        <p:spPr>
          <a:xfrm>
            <a:off x="611280" y="98100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9" descr="i?id=78272320&amp;tov=3"/>
          <p:cNvPicPr/>
          <p:nvPr/>
        </p:nvPicPr>
        <p:blipFill>
          <a:blip r:embed="rId3"/>
          <a:stretch/>
        </p:blipFill>
        <p:spPr>
          <a:xfrm>
            <a:off x="324000" y="1052640"/>
            <a:ext cx="1409400" cy="207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0" descr="i?id=95998571&amp;tov=7"/>
          <p:cNvPicPr/>
          <p:nvPr/>
        </p:nvPicPr>
        <p:blipFill>
          <a:blip r:embed="rId4"/>
          <a:stretch/>
        </p:blipFill>
        <p:spPr>
          <a:xfrm>
            <a:off x="6877080" y="981000"/>
            <a:ext cx="1697040" cy="237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3"/>
          <p:cNvSpPr/>
          <p:nvPr/>
        </p:nvSpPr>
        <p:spPr>
          <a:xfrm>
            <a:off x="2844720" y="249228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95"/>
          <p:cNvSpPr/>
          <p:nvPr/>
        </p:nvSpPr>
        <p:spPr>
          <a:xfrm>
            <a:off x="7627320" y="2565360"/>
            <a:ext cx="1514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6"/>
          <p:cNvSpPr/>
          <p:nvPr/>
        </p:nvSpPr>
        <p:spPr>
          <a:xfrm>
            <a:off x="1909440" y="4941720"/>
            <a:ext cx="383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дуб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8"/>
          <p:cNvSpPr/>
          <p:nvPr/>
        </p:nvSpPr>
        <p:spPr>
          <a:xfrm>
            <a:off x="2341080" y="4941720"/>
            <a:ext cx="385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вол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0"/>
          <p:cNvSpPr/>
          <p:nvPr/>
        </p:nvSpPr>
        <p:spPr>
          <a:xfrm>
            <a:off x="1694160" y="5013360"/>
            <a:ext cx="419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зелен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11"/>
          <p:cNvSpPr/>
          <p:nvPr/>
        </p:nvSpPr>
        <p:spPr>
          <a:xfrm>
            <a:off x="1044000" y="-73080"/>
            <a:ext cx="76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Существите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96"/>
          <p:cNvSpPr/>
          <p:nvPr/>
        </p:nvSpPr>
        <p:spPr>
          <a:xfrm>
            <a:off x="540360" y="5013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по лестниц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96"/>
          <p:cNvSpPr/>
          <p:nvPr/>
        </p:nvSpPr>
        <p:spPr>
          <a:xfrm>
            <a:off x="1405080" y="4941720"/>
            <a:ext cx="555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к площад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-0.1133 L -0.27257 -0.23908 E">
                                      <p:cBhvr>
                                        <p:cTn id="56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552 -0.23075 E">
                                      <p:cBhvr>
                                        <p:cTn id="57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01873 L 0.22725 -0.17618 E">
                                      <p:cBhvr>
                                        <p:cTn id="59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-0.1133 L -0.27257 -0.23908 E">
                                      <p:cBhvr>
                                        <p:cTn id="60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10289 L 0.23177 -0.16578 E">
                                      <p:cBhvr>
                                        <p:cTn id="62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61128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Проспек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95280" y="1989000"/>
            <a:ext cx="5688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С. 46, упр.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Таблица окончаний наизусть</a:t>
            </a:r>
            <a:r>
              <a:rPr b="1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 любого произведения К.И.Чуковского выписать  четверостишие , в котором  у сущ. пишутся безударные оконч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9" descr="http://4.bp.blogspot.com/-LBvibLwHANg/Ulqcnk2_GzI/AAAAAAAACTg/cfVqqhKIqGA/s1600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6372360" y="4143240"/>
            <a:ext cx="2493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755640" y="1628640"/>
            <a:ext cx="691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Теперь я  знаю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900000" y="2565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Я научился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pic>
        <p:nvPicPr>
          <p:cNvPr id="230" name="Picture 6" descr="2[4]"/>
          <p:cNvPicPr/>
          <p:nvPr/>
        </p:nvPicPr>
        <p:blipFill>
          <a:blip r:embed="rId1"/>
          <a:stretch/>
        </p:blipFill>
        <p:spPr>
          <a:xfrm>
            <a:off x="6732720" y="4842000"/>
            <a:ext cx="2411280" cy="2016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63480" y="281160"/>
            <a:ext cx="801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Ул. Итогов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WordArt 9"/>
          <p:cNvSpPr txBox="1"/>
          <p:nvPr/>
        </p:nvSpPr>
        <p:spPr>
          <a:xfrm>
            <a:off x="900000" y="342900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ыло трудно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826920" y="4437000"/>
            <a:ext cx="66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гу похвали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ебя за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3" descr="Рисунок7.pn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35" name="Скругленный прямоугольник 4"/>
          <p:cNvSpPr/>
          <p:nvPr/>
        </p:nvSpPr>
        <p:spPr>
          <a:xfrm>
            <a:off x="2928960" y="3714840"/>
            <a:ext cx="2143080" cy="228600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286000"/>
              <a:gd name="textAreaBottom" fmla="*/ 2181600 h 2286000"/>
            </a:gdLst>
            <a:ahLst/>
            <a:rect l="textAreaLeft" t="textAreaTop" r="textAreaRight" b="textAreaBottom"/>
            <a:pathLst>
              <a:path w="21600" h="23040">
                <a:moveTo>
                  <a:pt x="3600" y="0"/>
                </a:moveTo>
                <a:arcTo wR="3600" hR="3600" stAng="16200000" swAng="-5400000"/>
                <a:lnTo>
                  <a:pt x="0" y="19440"/>
                </a:lnTo>
                <a:arcTo wR="3600" hR="3600" stAng="10800000" swAng="-5400000"/>
                <a:lnTo>
                  <a:pt x="18000" y="230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Bookman Old Style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Bookman Old Style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Прямоугольник 5" descr=""/>
          <p:cNvPicPr/>
          <p:nvPr/>
        </p:nvPicPr>
        <p:blipFill>
          <a:blip r:embed="rId2"/>
          <a:stretch/>
        </p:blipFill>
        <p:spPr>
          <a:xfrm>
            <a:off x="2786040" y="-291960"/>
            <a:ext cx="5595840" cy="26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8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6"/>
          <p:cNvSpPr/>
          <p:nvPr/>
        </p:nvSpPr>
        <p:spPr>
          <a:xfrm>
            <a:off x="901440" y="260280"/>
            <a:ext cx="747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66"/>
                </a:solidFill>
                <a:latin typeface="Times New Roman"/>
              </a:rPr>
              <a:t>Урок-путешеств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8000" y="119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ж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637600" y="119700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м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91636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85928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2700360" y="2276640"/>
            <a:ext cx="115092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059280" y="2133720"/>
            <a:ext cx="223344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 flipH="1">
            <a:off x="3780000" y="2276640"/>
            <a:ext cx="2304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5148360" y="2205000"/>
            <a:ext cx="100800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476360" y="404640"/>
            <a:ext cx="63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00"/>
                </a:solidFill>
                <a:latin typeface="Tahoma"/>
              </a:rPr>
              <a:t>1 склон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i?id=30285647&amp;tov=6"/>
          <p:cNvPicPr/>
          <p:nvPr/>
        </p:nvPicPr>
        <p:blipFill>
          <a:blip r:embed="rId1"/>
          <a:stretch/>
        </p:blipFill>
        <p:spPr>
          <a:xfrm>
            <a:off x="3924360" y="4724280"/>
            <a:ext cx="131904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pronoms2"/>
          <p:cNvPicPr/>
          <p:nvPr/>
        </p:nvPicPr>
        <p:blipFill>
          <a:blip r:embed="rId2"/>
          <a:stretch/>
        </p:blipFill>
        <p:spPr>
          <a:xfrm>
            <a:off x="755640" y="620640"/>
            <a:ext cx="7704000" cy="577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763640" y="2781360"/>
          <a:ext cx="3529080" cy="4022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…зет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…года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…ревн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8"/>
          <p:cNvSpPr/>
          <p:nvPr/>
        </p:nvSpPr>
        <p:spPr>
          <a:xfrm>
            <a:off x="1837440" y="4869000"/>
            <a:ext cx="23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п...со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1117080" y="-24300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Орфографическ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2197080" y="2492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2340000" y="5668920"/>
            <a:ext cx="5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2413440" y="458136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2413080" y="357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908000" y="119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м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682240" y="1197000"/>
            <a:ext cx="23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ср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124000" y="3716280"/>
            <a:ext cx="1368360" cy="10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572000" y="3716280"/>
            <a:ext cx="1512720" cy="10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843280" y="2349360"/>
            <a:ext cx="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5508360" y="2492280"/>
            <a:ext cx="86364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6659640" y="2421000"/>
            <a:ext cx="720720" cy="115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692360" y="333360"/>
            <a:ext cx="63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00"/>
                </a:solidFill>
                <a:latin typeface="Tahoma"/>
              </a:rPr>
              <a:t>2 склон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659640" y="3716280"/>
            <a:ext cx="144144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3" descr="i?id=44600933&amp;tov=5"/>
          <p:cNvPicPr/>
          <p:nvPr/>
        </p:nvPicPr>
        <p:blipFill>
          <a:blip r:embed="rId1"/>
          <a:stretch/>
        </p:blipFill>
        <p:spPr>
          <a:xfrm>
            <a:off x="5796000" y="4508640"/>
            <a:ext cx="108576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pronoms2"/>
          <p:cNvPicPr/>
          <p:nvPr/>
        </p:nvPicPr>
        <p:blipFill>
          <a:blip r:embed="rId2"/>
          <a:stretch/>
        </p:blipFill>
        <p:spPr>
          <a:xfrm>
            <a:off x="971640" y="549360"/>
            <a:ext cx="7561080" cy="56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3132000" y="2602080"/>
          <a:ext cx="4824720" cy="413532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…лика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…по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…лез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40"/>
          <p:cNvSpPr/>
          <p:nvPr/>
        </p:nvSpPr>
        <p:spPr>
          <a:xfrm>
            <a:off x="3133440" y="558972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ул…ц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3710520" y="234936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3782160" y="43657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5"/>
          <p:cNvSpPr/>
          <p:nvPr/>
        </p:nvSpPr>
        <p:spPr>
          <a:xfrm>
            <a:off x="37101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7"/>
          <p:cNvSpPr/>
          <p:nvPr/>
        </p:nvSpPr>
        <p:spPr>
          <a:xfrm>
            <a:off x="4068720" y="5300640"/>
            <a:ext cx="7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8"/>
          <p:cNvSpPr/>
          <p:nvPr/>
        </p:nvSpPr>
        <p:spPr>
          <a:xfrm>
            <a:off x="1116000" y="692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5928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ж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64000" y="4437000"/>
            <a:ext cx="1368360" cy="10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4284720" y="306864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332000" y="620640"/>
            <a:ext cx="63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00"/>
                </a:solidFill>
                <a:latin typeface="Tahoma"/>
              </a:rPr>
              <a:t>3 склон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i?id=2078903&amp;tov=6"/>
          <p:cNvPicPr/>
          <p:nvPr/>
        </p:nvPicPr>
        <p:blipFill>
          <a:blip r:embed="rId1"/>
          <a:stretch/>
        </p:blipFill>
        <p:spPr>
          <a:xfrm>
            <a:off x="5364000" y="3284640"/>
            <a:ext cx="1187640" cy="167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ronoms2"/>
          <p:cNvPicPr/>
          <p:nvPr/>
        </p:nvPicPr>
        <p:blipFill>
          <a:blip r:embed="rId2"/>
          <a:stretch/>
        </p:blipFill>
        <p:spPr>
          <a:xfrm>
            <a:off x="324000" y="189000"/>
            <a:ext cx="8604000" cy="645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195640" y="2565360"/>
          <a:ext cx="3673440" cy="4046400"/>
        </p:xfrm>
        <a:graphic>
          <a:graphicData uri="http://schemas.openxmlformats.org/drawingml/2006/table">
            <a:tbl>
              <a:tblPr/>
              <a:tblGrid>
                <a:gridCol w="36734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лощ…д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…трад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…рков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7"/>
          <p:cNvSpPr/>
          <p:nvPr/>
        </p:nvSpPr>
        <p:spPr>
          <a:xfrm>
            <a:off x="2270160" y="3573360"/>
            <a:ext cx="33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м…двед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918520" y="328464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2845440" y="43657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4213440" y="2349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2843280" y="5300640"/>
            <a:ext cx="5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857" descr="pronoms2"/>
          <p:cNvPicPr/>
          <p:nvPr/>
        </p:nvPicPr>
        <p:blipFill>
          <a:blip r:embed="rId1"/>
          <a:stretch/>
        </p:blipFill>
        <p:spPr>
          <a:xfrm>
            <a:off x="2771640" y="1628640"/>
            <a:ext cx="2449800" cy="183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58" descr="pronoms2"/>
          <p:cNvPicPr/>
          <p:nvPr/>
        </p:nvPicPr>
        <p:blipFill>
          <a:blip r:embed="rId2"/>
          <a:stretch/>
        </p:blipFill>
        <p:spPr>
          <a:xfrm>
            <a:off x="0" y="2781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59" descr="pronoms2"/>
          <p:cNvPicPr/>
          <p:nvPr/>
        </p:nvPicPr>
        <p:blipFill>
          <a:blip r:embed="rId3"/>
          <a:stretch/>
        </p:blipFill>
        <p:spPr>
          <a:xfrm>
            <a:off x="5076720" y="90792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8" name="Line 1860"/>
          <p:cNvSpPr/>
          <p:nvPr/>
        </p:nvSpPr>
        <p:spPr>
          <a:xfrm flipV="1">
            <a:off x="0" y="1268280"/>
            <a:ext cx="9144000" cy="4824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861"/>
          <p:cNvSpPr/>
          <p:nvPr/>
        </p:nvSpPr>
        <p:spPr>
          <a:xfrm flipV="1">
            <a:off x="1619280" y="2565360"/>
            <a:ext cx="7524720" cy="4292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62"/>
          <p:cNvSpPr/>
          <p:nvPr/>
        </p:nvSpPr>
        <p:spPr>
          <a:xfrm>
            <a:off x="323640" y="0"/>
            <a:ext cx="50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 Словар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864"/>
          <p:cNvSpPr/>
          <p:nvPr/>
        </p:nvSpPr>
        <p:spPr>
          <a:xfrm>
            <a:off x="1440" y="54450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866"/>
          <p:cNvSpPr/>
          <p:nvPr/>
        </p:nvSpPr>
        <p:spPr>
          <a:xfrm>
            <a:off x="828720" y="5013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68"/>
          <p:cNvSpPr/>
          <p:nvPr/>
        </p:nvSpPr>
        <p:spPr>
          <a:xfrm>
            <a:off x="1549800" y="4653000"/>
            <a:ext cx="12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70"/>
          <p:cNvSpPr/>
          <p:nvPr/>
        </p:nvSpPr>
        <p:spPr>
          <a:xfrm>
            <a:off x="4357440" y="32846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72"/>
          <p:cNvSpPr/>
          <p:nvPr/>
        </p:nvSpPr>
        <p:spPr>
          <a:xfrm>
            <a:off x="2628720" y="4221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74"/>
          <p:cNvSpPr/>
          <p:nvPr/>
        </p:nvSpPr>
        <p:spPr>
          <a:xfrm>
            <a:off x="3421080" y="3860640"/>
            <a:ext cx="10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76"/>
          <p:cNvSpPr/>
          <p:nvPr/>
        </p:nvSpPr>
        <p:spPr>
          <a:xfrm>
            <a:off x="5221800" y="29242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78"/>
          <p:cNvSpPr/>
          <p:nvPr/>
        </p:nvSpPr>
        <p:spPr>
          <a:xfrm>
            <a:off x="6518160" y="191628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876"/>
          <p:cNvSpPr/>
          <p:nvPr/>
        </p:nvSpPr>
        <p:spPr>
          <a:xfrm>
            <a:off x="6086160" y="2421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876"/>
          <p:cNvSpPr/>
          <p:nvPr/>
        </p:nvSpPr>
        <p:spPr>
          <a:xfrm>
            <a:off x="7094520" y="1916280"/>
            <a:ext cx="93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876"/>
          <p:cNvSpPr/>
          <p:nvPr/>
        </p:nvSpPr>
        <p:spPr>
          <a:xfrm>
            <a:off x="7958160" y="1484280"/>
            <a:ext cx="90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Arial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1" descr="BEETLE"/>
          <p:cNvPicPr/>
          <p:nvPr/>
        </p:nvPicPr>
        <p:blipFill>
          <a:blip r:embed="rId4"/>
          <a:stretch/>
        </p:blipFill>
        <p:spPr>
          <a:xfrm rot="220800">
            <a:off x="5219640" y="4149720"/>
            <a:ext cx="3606840" cy="24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-899640" y="0"/>
            <a:ext cx="825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Аллея предлож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95280" y="2781360"/>
            <a:ext cx="813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50920" y="5229360"/>
            <a:ext cx="80661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i?id=736166&amp;tov=4"/>
          <p:cNvPicPr/>
          <p:nvPr/>
        </p:nvPicPr>
        <p:blipFill>
          <a:blip r:embed="rId1"/>
          <a:stretch/>
        </p:blipFill>
        <p:spPr>
          <a:xfrm>
            <a:off x="7451640" y="33336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i?id=91442793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5229360"/>
            <a:ext cx="1333440" cy="1382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i?id=91442793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5229360"/>
            <a:ext cx="1333800" cy="129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i?id=88434711&amp;tov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530064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i?id=88434711&amp;tov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i?id=88434711&amp;tov=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i?id=73416181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692360" y="1341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?id=73416181&amp;tov=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76720" y="5229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i?id=73416181&amp;tov=6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908000" y="530064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i?id=91442793&amp;tov=6"/>
          <p:cNvPicPr/>
          <p:nvPr/>
        </p:nvPicPr>
        <p:blipFill>
          <a:blip r:embed="rId18"/>
          <a:stretch/>
        </p:blipFill>
        <p:spPr>
          <a:xfrm>
            <a:off x="3132000" y="1268280"/>
            <a:ext cx="1333800" cy="138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i?id=73416181&amp;tov=6"/>
          <p:cNvPicPr/>
          <p:nvPr/>
        </p:nvPicPr>
        <p:blipFill>
          <a:blip r:embed="rId19"/>
          <a:stretch/>
        </p:blipFill>
        <p:spPr>
          <a:xfrm>
            <a:off x="4643280" y="1341360"/>
            <a:ext cx="1305000" cy="1333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1"/>
          <p:cNvSpPr/>
          <p:nvPr/>
        </p:nvSpPr>
        <p:spPr>
          <a:xfrm>
            <a:off x="2520" y="2995560"/>
            <a:ext cx="920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мы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автомобил(е/и),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дорог(е/и),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На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едем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по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50920" y="3573360"/>
            <a:ext cx="915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На автомобил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мы едем по дорог</a:t>
            </a: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661440" y="29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732720" y="2924280"/>
            <a:ext cx="80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7886520" y="42926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886880" y="42210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661080" y="299736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7886520" y="414972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908000" y="260280"/>
            <a:ext cx="68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«Правописание безудар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адежных оконча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мён существительных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в            Д.п.  и   П.п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ronoms2"/>
          <p:cNvPicPr/>
          <p:nvPr/>
        </p:nvPicPr>
        <p:blipFill>
          <a:blip r:embed="rId1"/>
          <a:stretch/>
        </p:blipFill>
        <p:spPr>
          <a:xfrm>
            <a:off x="0" y="243000"/>
            <a:ext cx="4643280" cy="6615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pronoms2"/>
          <p:cNvPicPr/>
          <p:nvPr/>
        </p:nvPicPr>
        <p:blipFill>
          <a:blip r:embed="rId2"/>
          <a:stretch/>
        </p:blipFill>
        <p:spPr>
          <a:xfrm>
            <a:off x="4500720" y="243000"/>
            <a:ext cx="4643280" cy="66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324000" y="2637000"/>
          <a:ext cx="4560840" cy="3887640"/>
        </p:xfrm>
        <a:graphic>
          <a:graphicData uri="http://schemas.openxmlformats.org/drawingml/2006/table">
            <a:tbl>
              <a:tblPr/>
              <a:tblGrid>
                <a:gridCol w="456084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нать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кончания имени существительного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о склонениям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в нужном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адеж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32"/>
          <p:cNvSpPr/>
          <p:nvPr/>
        </p:nvSpPr>
        <p:spPr>
          <a:xfrm>
            <a:off x="1836360" y="0"/>
            <a:ext cx="56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Прави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75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1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543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2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157800" y="2637000"/>
            <a:ext cx="178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64000" y="2637000"/>
          <a:ext cx="3456000" cy="3870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8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оверить окончание с помощь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порных слов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каждого склон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3:20:52Z</dcterms:created>
  <dc:creator>Mamontova</dc:creator>
  <dc:description/>
  <dc:language>en-US</dc:language>
  <cp:lastModifiedBy>Наталья</cp:lastModifiedBy>
  <dcterms:modified xsi:type="dcterms:W3CDTF">2021-02-03T17:29:47Z</dcterms:modified>
  <cp:revision>89</cp:revision>
  <dc:subject/>
  <dc:title>Презентация PowerPoint</dc:title>
</cp:coreProperties>
</file>